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23.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5.png" ContentType="image/png"/>
  <Override PartName="/ppt/media/image14.png" ContentType="image/png"/>
  <Override PartName="/ppt/media/image3.png" ContentType="image/png"/>
  <Override PartName="/ppt/media/image7.jpeg" ContentType="image/jpeg"/>
  <Override PartName="/ppt/media/image18.png" ContentType="image/png"/>
  <Override PartName="/ppt/media/image20.png" ContentType="image/png"/>
  <Override PartName="/ppt/media/image4.jpeg" ContentType="image/jpeg"/>
  <Override PartName="/ppt/media/image2.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C85AE-3B01-400E-9EC7-12F1B707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8C12-AA3D-4A2C-815F-E754477E5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B5B78-1B26-4F2A-9171-D293DDAB1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7C48C-BEE8-4480-B4E5-E58575F4E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05D99-8591-4BC9-A84E-A22CE6EBF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C13D-01D2-4F2F-BE8E-218A4EBDE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07F1F-D179-465C-B1EC-EB1E6EDD2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7A6AA-50C9-4378-B8D2-BD8E3CCC7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F6BC2-9B8E-4019-95D3-03983E9F6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58E0E-39E1-427E-B88F-D98C51EB1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0011-8A98-48F6-AFCC-A5F8AFFEB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F85C-6367-4C75-B5B2-4BC604CF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00F1B-D956-4515-8251-013E55C1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DED57-5229-461D-9F96-EC4E1E3FF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AFFB5-948C-4E4E-8A28-C002ED903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4ED79-5CFB-4E51-9475-1BD656347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EF8E6-A92B-4673-8C6C-EC31BCFA4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91D5C-3D58-49CC-BCA7-6EC99FBEF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D531-6C41-41A2-9B79-5597B90F6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8FFF2-F906-42F1-BAA2-3B9B7FE76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153AE-6E44-4B0F-AD93-9DB2D17A4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7F153-5064-4A1B-BF82-65DCC169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264C-D479-46F1-91A3-996FD382C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21FC2-A4A5-46F7-9614-4DF74ACC7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6C652-14F5-4C6A-8F6F-98DDACA68D83}" type="datetime">
              <a:rPr b="0" lang="en-US" sz="1200" spc="-1" strike="noStrike">
                <a:solidFill>
                  <a:srgbClr val="bcbcbc"/>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B5D61-2B80-44B3-B4D4-B1F54DA942A4}"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3439A-6265-4ECE-8A9E-7FD9AB48C667}" type="datetime">
              <a:rPr b="0" lang="en-US" sz="1200" spc="-1" strike="noStrike">
                <a:solidFill>
                  <a:srgbClr val="bcbcbc"/>
                </a:solidFill>
                <a:latin typeface="Arial"/>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CBCB4-B556-43B7-BF9D-A3F8885DEB26}"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0" y="1957320"/>
            <a:ext cx="9425160" cy="1949400"/>
          </a:xfrm>
          <a:prstGeom prst="rect">
            <a:avLst/>
          </a:prstGeom>
          <a:ln w="0">
            <a:noFill/>
          </a:ln>
        </p:spPr>
      </p:pic>
      <p:sp>
        <p:nvSpPr>
          <p:cNvPr id="83" name="PlaceHolder 1"/>
          <p:cNvSpPr>
            <a:spLocks noGrp="1"/>
          </p:cNvSpPr>
          <p:nvPr>
            <p:ph type="subTitle"/>
          </p:nvPr>
        </p:nvSpPr>
        <p:spPr>
          <a:xfrm>
            <a:off x="4795920" y="6541920"/>
            <a:ext cx="4348080" cy="316080"/>
          </a:xfrm>
          <a:prstGeom prst="rect">
            <a:avLst/>
          </a:prstGeom>
          <a:noFill/>
          <a:ln w="0">
            <a:noFill/>
          </a:ln>
        </p:spPr>
        <p:txBody>
          <a:bodyPr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Book Antiqua"/>
              </a:rPr>
              <a:t>James Burgoyne, Michael Coe, John Thacker, Jack Rehm</a:t>
            </a:r>
            <a:endParaRPr b="0" lang="en-US" sz="1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261720"/>
            <a:ext cx="8229600" cy="5460840"/>
          </a:xfrm>
          <a:prstGeom prst="rect">
            <a:avLst/>
          </a:prstGeom>
          <a:noFill/>
          <a:ln w="0">
            <a:noFill/>
          </a:ln>
        </p:spPr>
        <p:txBody>
          <a:bodyPr anchor="t">
            <a:normAutofit fontScale="99000"/>
          </a:bodyPr>
          <a:p>
            <a:pPr marL="541800" indent="-406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Book Antiqua"/>
              </a:rPr>
              <a:t>By preferring the support of domestic to that of foreign industry, he intends only his own security; and by directing that industry in such a manner as its produce may be of the greatest value, he intends only his own gain, and he is in this, as in many other eases, led by an invisible hand to promote an end which was no part of his intention... By pursuing his own interest he frequently promotes that of the society more effectually than when he really intends to promote it. I have never known much good done by those who affected to trade for the public good.</a:t>
            </a:r>
            <a:endParaRPr b="0" lang="en-US" sz="3000" spc="-1" strike="noStrike">
              <a:solidFill>
                <a:srgbClr val="ffffff"/>
              </a:solidFill>
              <a:latin typeface="Book Antiqua"/>
            </a:endParaRPr>
          </a:p>
        </p:txBody>
      </p:sp>
      <p:sp>
        <p:nvSpPr>
          <p:cNvPr id="105" name="TextBox 3"/>
          <p:cNvSpPr/>
          <p:nvPr/>
        </p:nvSpPr>
        <p:spPr>
          <a:xfrm>
            <a:off x="1643040" y="5722920"/>
            <a:ext cx="629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xcerpt from Adam Smith’s “The Wealth of N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7200" y="274680"/>
            <a:ext cx="8229600" cy="134136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orn May 7</a:t>
            </a:r>
            <a:r>
              <a:rPr b="0" lang="en-US" sz="2800" spc="-1" strike="noStrike" baseline="30000">
                <a:solidFill>
                  <a:srgbClr val="ffffff"/>
                </a:solidFill>
                <a:latin typeface="Book Antiqua"/>
              </a:rPr>
              <a:t>th</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ed August 25</a:t>
            </a:r>
            <a:r>
              <a:rPr b="0" lang="en-US" sz="2800" spc="-1" strike="noStrike" baseline="30000">
                <a:solidFill>
                  <a:srgbClr val="ffffff"/>
                </a:solidFill>
                <a:latin typeface="Book Antiqua"/>
              </a:rPr>
              <a:t>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cottis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treatise of Human Nature</a:t>
            </a:r>
            <a:endParaRPr b="0" lang="en-US" sz="2800" spc="-1" strike="noStrike">
              <a:solidFill>
                <a:srgbClr val="ffffff"/>
              </a:solidFill>
              <a:latin typeface="Book Antiqua"/>
            </a:endParaRPr>
          </a:p>
        </p:txBody>
      </p:sp>
      <p:pic>
        <p:nvPicPr>
          <p:cNvPr id="108" name="Picture 3" descr=""/>
          <p:cNvPicPr/>
          <p:nvPr/>
        </p:nvPicPr>
        <p:blipFill>
          <a:blip r:embed="rId2"/>
          <a:stretch/>
        </p:blipFill>
        <p:spPr>
          <a:xfrm>
            <a:off x="5486400" y="1828800"/>
            <a:ext cx="3200400" cy="427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7200" y="274680"/>
            <a:ext cx="8229600" cy="134136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mpiricis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du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kepticis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bbesi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ce-specie Flow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vate Proper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7200" y="274680"/>
            <a:ext cx="8229600" cy="134136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738-1794</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ali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imes and Punishments</a:t>
            </a:r>
            <a:endParaRPr b="0" lang="en-US" sz="2800" spc="-1" strike="noStrike">
              <a:solidFill>
                <a:srgbClr val="ffffff"/>
              </a:solidFill>
              <a:latin typeface="Book Antiqua"/>
            </a:endParaRPr>
          </a:p>
        </p:txBody>
      </p:sp>
      <p:pic>
        <p:nvPicPr>
          <p:cNvPr id="113" name="Picture 3" descr=""/>
          <p:cNvPicPr/>
          <p:nvPr/>
        </p:nvPicPr>
        <p:blipFill>
          <a:blip r:embed="rId2"/>
          <a:stretch/>
        </p:blipFill>
        <p:spPr>
          <a:xfrm>
            <a:off x="5349960" y="2021040"/>
            <a:ext cx="3800520" cy="48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7200" y="274680"/>
            <a:ext cx="8229600" cy="134136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ainst Death Penal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ainst Tort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tionalism in Law Enforcem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7200" y="274680"/>
            <a:ext cx="3127320" cy="134136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Men are born evi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Deis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One singular lead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Aphorism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Civil rights, freedom of religion</a:t>
            </a:r>
            <a:endParaRPr b="0" lang="en-US" sz="2800" spc="-1" strike="noStrike">
              <a:solidFill>
                <a:srgbClr val="ffffff"/>
              </a:solidFill>
              <a:latin typeface="Book Antiqua"/>
            </a:endParaRPr>
          </a:p>
        </p:txBody>
      </p:sp>
      <p:pic>
        <p:nvPicPr>
          <p:cNvPr id="118" name="Picture 3" descr="240px-Voltaire.jpg"/>
          <p:cNvPicPr/>
          <p:nvPr/>
        </p:nvPicPr>
        <p:blipFill>
          <a:blip r:embed="rId2"/>
          <a:stretch/>
        </p:blipFill>
        <p:spPr>
          <a:xfrm>
            <a:off x="5560920" y="0"/>
            <a:ext cx="3583080" cy="38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274680"/>
            <a:ext cx="8229600" cy="1341360"/>
          </a:xfrm>
          <a:prstGeom prst="rect">
            <a:avLst/>
          </a:prstGeom>
          <a:ln w="0">
            <a:noFill/>
          </a:ln>
        </p:spPr>
      </p:pic>
      <p:sp>
        <p:nvSpPr>
          <p:cNvPr id="120" name=""/>
          <p:cNvSpPr txBox="1"/>
          <p:nvPr/>
        </p:nvSpPr>
        <p:spPr>
          <a:xfrm>
            <a:off x="456840" y="1600200"/>
            <a:ext cx="428796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Separation of powe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All events are driven by a principal movem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Democrac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Divided the power of the monarchy</a:t>
            </a:r>
            <a:endParaRPr b="0" lang="en-US" sz="2800" spc="-1" strike="noStrike">
              <a:solidFill>
                <a:srgbClr val="ffffff"/>
              </a:solidFill>
              <a:latin typeface="Book Antiqua"/>
            </a:endParaRPr>
          </a:p>
        </p:txBody>
      </p:sp>
      <p:pic>
        <p:nvPicPr>
          <p:cNvPr id="121" name="Picture 3" descr="montesquieu.jpg"/>
          <p:cNvPicPr/>
          <p:nvPr/>
        </p:nvPicPr>
        <p:blipFill>
          <a:blip r:embed="rId2"/>
          <a:srcRect l="0" t="0" r="5313" b="4032"/>
          <a:stretch/>
        </p:blipFill>
        <p:spPr>
          <a:xfrm>
            <a:off x="5013360" y="1417680"/>
            <a:ext cx="3525840" cy="470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7200" y="274680"/>
            <a:ext cx="8229600" cy="134136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Morali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Society corrupts m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Man has changed over time</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Man was born free, and he is everywhere in chains. Those who think themselves the masters of others are indeed greater slaves than the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4" name="Picture 3" descr="200px-Jean-Jacques_Rousseau_(painted_portrait).jpg"/>
          <p:cNvPicPr/>
          <p:nvPr/>
        </p:nvPicPr>
        <p:blipFill>
          <a:blip r:embed="rId2"/>
          <a:stretch/>
        </p:blipFill>
        <p:spPr>
          <a:xfrm>
            <a:off x="6113520" y="692280"/>
            <a:ext cx="234324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34136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thematical thinker, believed in self evident truth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Precepts of Logic</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cept nothing as true that is not recognizably so</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vide and conquer</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duce implications from truth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Keep records in logical</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86" name="Picture 3" descr="descartes.jpg"/>
          <p:cNvPicPr/>
          <p:nvPr/>
        </p:nvPicPr>
        <p:blipFill>
          <a:blip r:embed="rId2"/>
          <a:stretch/>
        </p:blipFill>
        <p:spPr>
          <a:xfrm>
            <a:off x="6191280" y="3978360"/>
            <a:ext cx="2703600" cy="26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7200" y="274680"/>
            <a:ext cx="8229600" cy="134136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tui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thodical Doub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Cogito Ergo Su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nd over Matt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lieved in Go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7200" y="274680"/>
            <a:ext cx="8229600" cy="134136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xims for the practical world:</a:t>
            </a:r>
            <a:endParaRPr b="0" lang="en-US" sz="28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oderation</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ick to your guns</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thing is within our power but our thoughts</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hoose work best suited to you</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4136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lieved people should study the script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gnitive emo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finite substance:                                               God/Nature</a:t>
            </a:r>
            <a:endParaRPr b="0" lang="en-US" sz="28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bstance: Early                                     </a:t>
            </a:r>
            <a:r>
              <a:rPr b="0" lang="en-US" sz="3200" spc="-1" strike="noStrike">
                <a:solidFill>
                  <a:srgbClr val="ffffff"/>
                </a:solidFill>
                <a:latin typeface="Book Antiqua"/>
              </a:rPr>
              <a:t>Existentialist Idea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pic>
        <p:nvPicPr>
          <p:cNvPr id="93" name="Picture 3" descr="spinoza1.jpg"/>
          <p:cNvPicPr/>
          <p:nvPr/>
        </p:nvPicPr>
        <p:blipFill>
          <a:blip r:embed="rId2"/>
          <a:stretch/>
        </p:blipFill>
        <p:spPr>
          <a:xfrm>
            <a:off x="4651200" y="2425680"/>
            <a:ext cx="3543480" cy="44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7200" y="274680"/>
            <a:ext cx="8229600" cy="13413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equate/Inadequate Idea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Knowledge Type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bstract, random</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on knowledg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tuition</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34136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agmatic view of good/evi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gle authori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ligious Toler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sues with the social contra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Peace and Security of Lif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341360"/>
          </a:xfrm>
          <a:prstGeom prst="rect">
            <a:avLst/>
          </a:prstGeom>
          <a:ln w="0">
            <a:noFill/>
          </a:ln>
        </p:spPr>
      </p:pic>
      <p:sp>
        <p:nvSpPr>
          <p:cNvPr id="99" name=""/>
          <p:cNvSpPr txBox="1"/>
          <p:nvPr/>
        </p:nvSpPr>
        <p:spPr>
          <a:xfrm>
            <a:off x="457200" y="1600200"/>
            <a:ext cx="4038480" cy="452592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 had a very materialistic view of the univers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ggested all human behavior was determined by heredity</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ose friend of Rousseau</a:t>
            </a:r>
            <a:endParaRPr b="0" lang="en-US" sz="24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st known for serving as co-founder, chief editor of, and contributor to the </a:t>
            </a:r>
            <a:r>
              <a:rPr b="0" lang="en-US" sz="2200" spc="-1" strike="noStrike">
                <a:solidFill>
                  <a:srgbClr val="ffffff"/>
                </a:solidFill>
                <a:latin typeface="Book Antiqua"/>
              </a:rPr>
              <a:t>Encyclopédie</a:t>
            </a:r>
            <a:endParaRPr b="0" lang="en-US" sz="2200" spc="-1" strike="noStrike">
              <a:solidFill>
                <a:srgbClr val="ffffff"/>
              </a:solidFill>
              <a:latin typeface="Book Antiqua"/>
            </a:endParaRPr>
          </a:p>
        </p:txBody>
      </p:sp>
      <p:pic>
        <p:nvPicPr>
          <p:cNvPr id="100" name="Content Placeholder 5" descr="200px-Louis-Michel_van_Loo_001.jpg"/>
          <p:cNvPicPr/>
          <p:nvPr/>
        </p:nvPicPr>
        <p:blipFill>
          <a:blip r:embed="rId2"/>
          <a:srcRect l="-5315" t="0" r="-5315" b="0"/>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3"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600200"/>
            <a:ext cx="4038480" cy="452592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Father of Capitalism</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The Wealth of Nations </a:t>
            </a:r>
            <a:r>
              <a:rPr b="0" lang="en-US" sz="2600" spc="-1" strike="noStrike">
                <a:solidFill>
                  <a:srgbClr val="ffffff"/>
                </a:solidFill>
                <a:latin typeface="Book Antiqua"/>
              </a:rPr>
              <a:t>and </a:t>
            </a:r>
            <a:r>
              <a:rPr b="0" i="1" lang="en-US" sz="2600" spc="-1" strike="noStrike">
                <a:solidFill>
                  <a:srgbClr val="ffffff"/>
                </a:solidFill>
                <a:latin typeface="Book Antiqua"/>
              </a:rPr>
              <a:t>The Theory of Moral Sentiments</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invisible hand</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mith's belief that when an individual pursues his self-interest, he indirectly promotes the good of society</a:t>
            </a:r>
            <a:endParaRPr b="0" lang="en-US" sz="2600" spc="-1" strike="noStrike">
              <a:solidFill>
                <a:srgbClr val="ffffff"/>
              </a:solidFill>
              <a:latin typeface="Book Antiqua"/>
            </a:endParaRPr>
          </a:p>
        </p:txBody>
      </p:sp>
      <p:pic>
        <p:nvPicPr>
          <p:cNvPr id="103" name="Content Placeholder 4" descr="200px-AdamSmith.jpg"/>
          <p:cNvPicPr/>
          <p:nvPr/>
        </p:nvPicPr>
        <p:blipFill>
          <a:blip r:embed="rId2"/>
          <a:srcRect l="-16421" t="0" r="-16421" b="0"/>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03:25:03Z</dcterms:created>
  <dc:creator>Karla Coe</dc:creator>
  <dc:description/>
  <dc:language>en-US</dc:language>
  <cp:lastModifiedBy>Local User</cp:lastModifiedBy>
  <dcterms:modified xsi:type="dcterms:W3CDTF">2011-11-16T18:23:31Z</dcterms:modified>
  <cp:revision>6</cp:revision>
  <dc:subject/>
  <dc:title>Slide 1</dc:title>
</cp:coreProperties>
</file>